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8117-9071-4E28-89AB-6D8C10EC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B92-1821-40EB-AA17-B9C5242F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65B9-4D2A-41D8-880F-8297EEC8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F54-B257-4998-A1C3-2A7B517D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FE99-56D8-482F-BC96-5CB8E643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B818-ADA8-4AEF-837B-6C379D31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E184-ECB5-404F-A143-8E2CB599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4C81-60ED-416A-B79E-85E24BD4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7DAF-C8F2-44BB-9DC0-859BEDA4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9DCA-B7BE-4577-B53A-E1601D17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C6A8-C404-4F17-99E1-F2484D16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894-FC81-4621-B603-5546FA4B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F5B2-8C4A-4A01-8712-E7E56709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8650-9C01-45C4-8160-B04040C9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1DFB-31F8-40CF-82B1-257C11E0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1B34-2300-4DF4-80EC-78B51DB77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561E-8A45-4B64-A69F-C2DAD1D9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C8A72-0648-4DBA-BC20-5044D4FF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3E911-AEF2-4F22-8A6C-539C1F68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99A06-C936-4356-98E3-149DB994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707AC-797C-46F2-8862-54EFB098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34D27-ADB1-4A71-BBC8-F0CC4F2A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ECCF-448D-47AC-B80F-4060A41C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28D29-0FD4-4ED8-AF75-1DBE2E50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88AE-5457-4F83-A5C0-04369E45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FF0EE-82F2-4D47-821B-37D6EC25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F5422-F0ED-443D-A2E8-E36EB306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38B3-4EB2-4124-9DA8-3C292D49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550F0-D80E-4A64-9245-2F7E1A25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BD524-246D-4501-862D-397CAB6A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422-42DB-4969-A11E-5B6FCAD8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8CD9-83AC-467D-A5DE-EB85ADAF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B7B7-6775-48C6-9226-6F21E6A0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3A1F-F992-4E79-A72C-D973A7BA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F544-07AB-4118-906C-1092117D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EE0-1F17-4F71-8EDF-4417D28A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E0C5-7603-484C-A1B7-02C626709C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EAA3-3003-4D6D-9C74-E68ACBC3A0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68B5-FAE6-4266-A74D-C09464D08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ienvenue la casa de Sharon &amp; Ozzy Osbourne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124080" y="3429000"/>
            <a:ext cx="6019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380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 cuarto es mis favorito color violeta. Las paredes son blancas. Y las hojas son simplemente precio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2286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28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a sala es  la color azul. Hay flores en esta sala e precioso.. La sala es una luga perfecto para descans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76920" y="3808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omedor es grande e lindo . La color es azul y beige. Sharon y ozzy osborne gusta de comeier aqu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68580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00600" y="1314360"/>
            <a:ext cx="43434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480060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648320"/>
            <a:ext cx="83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5486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ocina es azul. Sharon y ozzy gusta de cocinar aqui. La concina e li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3520" y="4572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049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 Patio es grande  e azul e blanco e lindo. La flores esta lindas. Sharon y ozzy gusta de descasa aqui. Le gusta das azul e bran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7:02:23Z</dcterms:created>
  <dc:creator>edill</dc:creator>
  <dc:description/>
  <dc:language>en-US</dc:language>
  <cp:lastModifiedBy>edill</cp:lastModifiedBy>
  <dcterms:modified xsi:type="dcterms:W3CDTF">2012-04-25T13:23:33Z</dcterms:modified>
  <cp:revision>5</cp:revision>
  <dc:subject/>
  <dc:title>Bienvenue la casa de Sharon &amp; Ozzy Osbourn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